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10.xml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0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9" idx="3"/>
            <a:endCxn id="100" idx="1"/>
          </p:cNvCxnSpPr>
          <p:nvPr/>
        </p:nvCxnSpPr>
        <p:spPr>
          <a:xfrm flipV="1">
            <a:off x="3313080" y="3361320"/>
            <a:ext cx="2699280" cy="7210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1" name=""/>
          <p:cNvCxnSpPr>
            <a:stCxn id="99" idx="3"/>
            <a:endCxn id="102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irub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6920" y="54936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ilirub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79864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hysi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+ bis ++ beim weibl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und, + bis +++ be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ännl. Hund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erbilirub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00" y="6153480"/>
            <a:ext cx="18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weibl. = weiblich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männl. = männlich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epatozellul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ilirubintransport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7" idx="3"/>
            <a:endCxn id="15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1" name=""/>
          <p:cNvCxnSpPr>
            <a:stCxn id="157" idx="3"/>
            <a:endCxn id="15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1053360" y="549360"/>
            <a:ext cx="47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ilirub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erbilirub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5760" y="549360"/>
            <a:ext cx="72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ilirub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erbilirub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epat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Leberfunktion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4" idx="3"/>
            <a:endCxn id="16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zirrh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tumo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Lymphom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lipid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zellul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ilirubintransport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ransportsyste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(durch TNF-</a:t>
            </a:r>
            <a:r>
              <a:rPr b="0" lang="el-GR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4" action="ppaction://hlinksldjump"/>
              </a:rPr>
              <a:t>α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5" action="ppaction://hlinksldjump"/>
              </a:rPr>
              <a:t> ↑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9" idx="3"/>
            <a:endCxn id="172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3" name=""/>
          <p:cNvCxnSpPr>
            <a:stCxn id="169" idx="3"/>
            <a:endCxn id="17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ngel an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nur Pferd und Rind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04480" y="549360"/>
            <a:ext cx="62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ilirubin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epatozellulären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 Bilirubintransport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7040" y="639684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TNF-</a:t>
            </a:r>
            <a:r>
              <a:rPr b="0" lang="el-GR" sz="16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 = Tumornekrosefaktor-</a:t>
            </a:r>
            <a:r>
              <a:rPr b="0" lang="el-GR" sz="16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ransportsyste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durch TNF-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α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↑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6280" y="549360"/>
            <a:ext cx="77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ilirubin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epatozellulären Bilirubintransports &gt; Störung des Transportsyste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(durch TNF-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 ↑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7" idx="3"/>
            <a:endCxn id="18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chgradige system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. B. Sepsis, FIP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5910120"/>
            <a:ext cx="307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TNF-</a:t>
            </a:r>
            <a:r>
              <a:rPr b="0" lang="el-GR" sz="16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 = Tumornekrosefaktor-</a:t>
            </a:r>
            <a:r>
              <a:rPr b="0" lang="el-GR" sz="16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  <a:ea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  <a:ea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st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llengang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3" idx="3"/>
            <a:endCxn id="186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87" name=""/>
          <p:cNvCxnSpPr>
            <a:stCxn id="183" idx="3"/>
            <a:endCxn id="18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llengangsruptu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4480" y="549360"/>
            <a:ext cx="56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Bilirubin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Hyperbilirubinämie &gt; post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llengang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3760" y="549360"/>
            <a:ext cx="58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Bilirubin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Hyperbilirubinämie &gt; posthepatisch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Gallengangs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0" idx="3"/>
            <a:endCxn id="19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olangiohep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llengangskarzin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kre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llenstein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bilirub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6" idx="3"/>
            <a:endCxn id="108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9" name=""/>
          <p:cNvCxnSpPr>
            <a:stCxn id="106" idx="3"/>
            <a:endCxn id="110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ost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6" idx="3"/>
            <a:endCxn id="111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rä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08360" y="54936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ilirubi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erbilirub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6" idx="3"/>
            <a:endCxn id="11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ä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nfall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49360"/>
            <a:ext cx="50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ilirubin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ä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fall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bbau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oglob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bbau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yoglob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0" idx="3"/>
            <a:endCxn id="12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4" name=""/>
          <p:cNvCxnSpPr>
            <a:stCxn id="120" idx="3"/>
            <a:endCxn id="12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1123920" y="549360"/>
            <a:ext cx="70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ilirubin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bau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glob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3"/>
            <a:endCxn id="12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0" name=""/>
          <p:cNvCxnSpPr>
            <a:stCxn id="127" idx="3"/>
            <a:endCxn id="131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en in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örperhöhlen o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ato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23200" y="549360"/>
            <a:ext cx="72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ilirubin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bbau von Hämoglob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x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in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4" idx="3"/>
            <a:endCxn id="13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8" name=""/>
          <p:cNvCxnSpPr>
            <a:stCxn id="134" idx="3"/>
            <a:endCxn id="13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1123200" y="549360"/>
            <a:ext cx="72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ilirubin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Abbau von Hämoglob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23200" y="549360"/>
            <a:ext cx="72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ilirubin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bbau von Hämoglob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ämoly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extravasale 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1" idx="3"/>
            <a:endCxn id="14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abes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utoimmunhämolytische A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nfektion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otrophen Mykoplasm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23200" y="549360"/>
            <a:ext cx="72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ilirubin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bbau von Hämoglob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ämoly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intravasale 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6" idx="3"/>
            <a:endCxn id="14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upferintoxik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Bedlington-Terrier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wendung ein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lysmas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itungswass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v. a. Katz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ophosphat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bei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iabetischer Ketoazidos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chwerer Verlauf ei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utoimmunhämolytis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chwerer Verlau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iner Babes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640" y="6153480"/>
            <a:ext cx="197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3" idx="3"/>
            <a:endCxn id="154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bau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yoglob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ss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skelzell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3200" y="549360"/>
            <a:ext cx="72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ilirubinur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bbau von Myoglobin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12:50:38Z</dcterms:modified>
  <cp:revision>329</cp:revision>
  <dc:subject/>
  <dc:title>Vorstellung einer Neuheit</dc:title>
</cp:coreProperties>
</file>